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DB5-6DE2-4864-9EE6-4428B373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40080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80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151-F037-4369-BF3B-F82DC10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87F-5CB6-4CDD-AD60-77ED69A5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8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8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425-545B-4CE0-85DF-FA107D79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122-BCFB-4390-8C15-69FCDDCA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306-A96D-47E0-B412-95FC6E1C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3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880"/>
            <a:ext cx="3123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C4D-78C6-4F16-BE11-C96EF34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4C3-2542-4FF2-97F2-98787B1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AE9-D419-47DF-883C-3A1A56A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880"/>
            <a:ext cx="3123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B21-5106-41A1-8E84-ADFBBF7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3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02-AA49-4B25-8AF5-60AE5DA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880"/>
            <a:ext cx="3123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80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8C4-59B4-4BB7-A9C5-7864D86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2280"/>
            <a:chOff x="0" y="0"/>
            <a:chExt cx="9144000" cy="510228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8120" y="2347920"/>
              <a:ext cx="64659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8AD-289D-4076-B571-975E83357B6D}" type="datetime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21A-BB56-41D3-9B8A-32AA2E7DD996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1143000" y="73188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0404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40404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Clr>
                <a:srgbClr val="40404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buClr>
                <a:srgbClr val="40404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buClr>
                <a:srgbClr val="40404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360" y="404640"/>
            <a:ext cx="3527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ОУ «Хиславичская СШ»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лассный час на тему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емья и семейные цен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Щербич Галина Васильев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учитель начальных класс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МБОУ «Хиславичская СШ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3" name="Picture 5" descr="C:\Users\ксения\Documents\картинки\depositphotos_12178585-stock-illustration-happy-family.jpg"/>
          <p:cNvPicPr/>
          <p:nvPr/>
        </p:nvPicPr>
        <p:blipFill>
          <a:blip r:embed="rId1"/>
          <a:stretch/>
        </p:blipFill>
        <p:spPr>
          <a:xfrm>
            <a:off x="395280" y="3500280"/>
            <a:ext cx="36003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6464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Колодец счасть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1143000" y="1368360"/>
            <a:ext cx="72090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437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Ромашка=пожелание..заставк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7280" y="503280"/>
            <a:ext cx="856944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720720" y="1152360"/>
            <a:ext cx="80629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ИСТОЧНИК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://rasfokus.ru/photos/photo1905611.ht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www.canstockphoto.ru/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мальчик-море-10170999.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fsd.kopilkaurokov.ru/up/html/2020/06/04/k_5ed95f0932ebb/552637_1.jp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www.beesona.ru/id27084/playcast/30549/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vk.com/photo70254711_457254963?rev=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yandex.ru/images/search?cbir_id=4330726%2FEJ72fPIXTKiUa_IhWhYQcw3965&amp;cbird=5&amp;rpt=imageview&amp;redircnt=1614103676.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yandex.ru/images/search?cbir_id=4390740%2Fnid7Qem7gczMywjX4i5wTw5098&amp;cbird=5&amp;rpt=imageview&amp;redircnt=161410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773.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yandex.ru/images/search?cbir_id=4592523%2FKZjJIpm7rMDG8-OS5PCTDQ7745&amp;cbird=5&amp;rpt=imageview&amp;redircnt=1614103879.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Microsoft YaHei"/>
              </a:rPr>
              <a:t>https://yandex.ru/images/search?cbird=5&amp;rpt=imageview&amp;redircnt=1614104002.1&amp;url=https%3A%2F%2Favatars.mds.yandex.net%2Fget-images-cbir%2F4828928%2FkkOw81mWctjvCAssGY0MqQ2402%2Forig&amp;cbir_id=4828928%2FkkOw81mWctjvCAssGY0MqQ240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6840" y="76464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Оргмомен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1008000" y="1584360"/>
            <a:ext cx="705636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Притча «Семья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4824360" y="576360"/>
            <a:ext cx="410364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576360" y="1944720"/>
            <a:ext cx="41749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549360" y="1665360"/>
            <a:ext cx="312264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4479840" y="287280"/>
            <a:ext cx="30067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3"/>
          <a:stretch/>
        </p:blipFill>
        <p:spPr>
          <a:xfrm>
            <a:off x="5759280" y="2546280"/>
            <a:ext cx="295308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240" y="48956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Я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480000" y="431640"/>
            <a:ext cx="2519640" cy="3240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669960" y="1295280"/>
            <a:ext cx="58100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5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080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«Как появилась дружная семья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100000"/>
              </a:lnSpc>
              <a:spcAft>
                <a:spcPts val="1412"/>
              </a:spcAft>
              <a:buClr>
                <a:srgbClr val="40404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«Давным-давно жила семья, в которой было 100 человек, но не было между ними согласия. Устали они от ссор и раздоров. И вот решили члены семьи обратиться к мудрецу, чтобы он научил их жить дружно. Мудрец внимательно выслушал просителей и сказал: «Никто не научит вас жить счастливо, вы должны сами понять, что вам нужно для счастья, напишите, какой вы хотите видеть свою семью». Собралась эта огромная семья на семейный совет и решили они, чтобы семья была дружной, надо относиться друг к другу, придерживаясь этих качеств (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каких?)…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80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16000" y="792000"/>
            <a:ext cx="5543280" cy="5616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08360" y="792000"/>
            <a:ext cx="237492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ПОНИМАН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УВАЖЕН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ЛЮБОВ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ДОВЕР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ДОБРО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ЗАБО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ДРУЖБ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  <a:ea typeface="Microsoft YaHei"/>
              </a:rPr>
              <a:t>ПОМОЩ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0" y="0"/>
            <a:ext cx="9144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61920" y="33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87160" y="764640"/>
            <a:ext cx="8497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Пословицы и поговорк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 дружной семье    и в холод тепло.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емье согласно, так идет дело прекрас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ся семья вместе,  так и душа на мес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 семью, где лад  счастье дорогу не забывае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Семья сильна, когда над ней крыша од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 недружной семье  добра не бывает.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 семье любовь и совет,  мне и горя не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В гостях хорошо, а дома лучш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И стены в доме помогаю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1" name="Picture 4" descr="C:\Users\ксения\Documents\картинки\3272.jpg"/>
          <p:cNvPicPr/>
          <p:nvPr/>
        </p:nvPicPr>
        <p:blipFill>
          <a:blip r:embed="rId1"/>
          <a:stretch/>
        </p:blipFill>
        <p:spPr>
          <a:xfrm>
            <a:off x="5940360" y="5084640"/>
            <a:ext cx="295272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ения</dc:creator>
  <dc:description/>
  <dc:language>en-US</dc:language>
  <cp:lastModifiedBy>ксения</cp:lastModifiedBy>
  <dcterms:modified xsi:type="dcterms:W3CDTF">2021-02-24T14:11:40Z</dcterms:modified>
  <cp:revision>15</cp:revision>
  <dc:subject/>
  <dc:title>Семья и семейные ценности</dc:title>
</cp:coreProperties>
</file>